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6F61-84C4-4F33-BBD7-DE9B1436A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ADCA-8A1B-40D4-8123-CF1FB7204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B062-F3E3-4FF6-8503-DFEFC07D0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9812-1A54-4102-8954-AE3320C24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FCFA-5264-44CA-BC28-F67EE4E43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3E45-EDAC-4BE3-84F9-C365E487E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781D-EAAE-45FC-9753-B30537D21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F73E-1449-4EF7-8272-95DA5474E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677E-94DD-4A7A-819B-CD824E4CF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3CC2-FF65-4055-BB8D-9A6A5C530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075A-8AC0-46CD-9833-85295A54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8210-78C8-40D5-92AF-3BC73AA45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FFDDC-9457-4247-BC5D-798240730D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1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2"/>
          <a:stretch/>
        </p:blipFill>
        <p:spPr>
          <a:xfrm>
            <a:off x="63360" y="533520"/>
            <a:ext cx="1854360" cy="18158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2"/>
          <p:cNvSpPr/>
          <p:nvPr/>
        </p:nvSpPr>
        <p:spPr>
          <a:xfrm>
            <a:off x="990720" y="1066680"/>
            <a:ext cx="8153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0000"/>
                </a:solidFill>
                <a:latin typeface="Britannic Bold"/>
                <a:ea typeface="Gisha"/>
              </a:rPr>
              <a:t>Hacemos Conexión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1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2"/>
          <a:stretch/>
        </p:blipFill>
        <p:spPr>
          <a:xfrm>
            <a:off x="63360" y="533520"/>
            <a:ext cx="1854360" cy="18158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2"/>
          <p:cNvSpPr/>
          <p:nvPr/>
        </p:nvSpPr>
        <p:spPr>
          <a:xfrm>
            <a:off x="990720" y="0"/>
            <a:ext cx="815328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Dios en su amor nos mostró cual pastor,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en Cristo  Él nos di</a:t>
            </a: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o la salvación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y con su sangre el hijo el precio pag</a:t>
            </a: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ó 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para hacer con el Padre una conexión.</a:t>
            </a:r>
            <a:br>
              <a:rPr sz="3100"/>
            </a:b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Coro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Un enlace de amor y ver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desde el Padre y su santi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y unidos en Cristo, la eterna ver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hacemos conexión con la humanidad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1"/>
          <a:stretch/>
        </p:blipFill>
        <p:spPr>
          <a:xfrm>
            <a:off x="7634160" y="5410080"/>
            <a:ext cx="1478160" cy="1447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2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380880" y="189000"/>
            <a:ext cx="8305920" cy="64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Danos Jesús de tu perfecto amor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haz con nosotros esa conexión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que tu Palabra ponga en nosotros fervor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y al perdido alcancemos llenos de tu unción.</a:t>
            </a:r>
            <a:br>
              <a:rPr sz="3500"/>
            </a:br>
            <a:br>
              <a:rPr sz="3500"/>
            </a:br>
            <a:r>
              <a:rPr b="1" lang="es-ES" sz="3000" spc="-1" strike="noStrike">
                <a:solidFill>
                  <a:srgbClr val="c0504d"/>
                </a:solidFill>
                <a:latin typeface="Candara"/>
                <a:ea typeface="ＭＳ Ｐゴシック"/>
              </a:rPr>
              <a:t>Coro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Un enlace de amor y verdad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desde el Padre y su sant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y unidos en Cristo, la eterna verdad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hacemos conexión con la humanidad.</a:t>
            </a:r>
            <a:br>
              <a:rPr sz="3000"/>
            </a:b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Gisha"/>
              </a:rPr>
              <a:t>Hacemos conexi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ón con la human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con la human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9:03:58Z</dcterms:created>
  <dc:creator>Blanca</dc:creator>
  <dc:description/>
  <dc:language>en-US</dc:language>
  <cp:lastModifiedBy>Ramon </cp:lastModifiedBy>
  <dcterms:modified xsi:type="dcterms:W3CDTF">2011-01-07T23:14:08Z</dcterms:modified>
  <cp:revision>9</cp:revision>
  <dc:subject/>
  <dc:title>Dios en su amor nos mostró cual pastor, en Cristo  Él nos dio la salvación y con su sangre el hijo el precio pagó  para hacer con el Padre una conexión. Coro Un enlace de amor y verdad desde el Padre y su santidad  y unidos en Cristo, la eterna verdad hacemos conexión con la humanidad.</dc:title>
</cp:coreProperties>
</file>